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F8C-A4CA-4957-9357-1C43DA84D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9411-16F1-41B3-9743-1BBD4E1FA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A73-4711-48AB-9116-66F57A58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CA5-87F3-47A9-9F66-9C345A6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B6D-A6E6-4749-B643-00F4D333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A76-783B-4C2D-B85A-FD39D92B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1C9-C781-4747-9BCF-877FFE6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05B-F23C-4F57-960D-4CABB411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5EF-217F-4B82-B18D-F5415FD4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ED1-2B6E-4B0D-ABA7-FB5628F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152-5CCF-4E4E-AB9C-A88A49AD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799-0AA9-45FF-9A95-EF4EB7F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2EA-8447-4537-8B9C-7A49B56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9B0-DBFC-460B-AED9-84B4FF3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79C7-4F73-4411-83B5-9640513CB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228600" y="0"/>
          <a:ext cx="8913960" cy="67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3960" cy="6707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3352320"/>
            <a:ext cx="8153280" cy="2667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alibri"/>
              </a:rPr>
              <a:t>Bob : Je dois travailler au Krab Krusty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6b9b8"/>
                </a:solidFill>
                <a:latin typeface="Calibri"/>
              </a:rPr>
              <a:t>Patrice : Je vais avec to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alibri"/>
              </a:rPr>
              <a:t>Bob : Tu vas y mang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6b9b8"/>
                </a:solidFill>
                <a:latin typeface="Calibri"/>
              </a:rPr>
              <a:t>Patrice : Oui, Oui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523880" y="1295280"/>
            <a:ext cx="6324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228600"/>
            <a:ext cx="7696440" cy="2043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ugene: L’argent l’argent l’ar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ob: mounsiur Krab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ugene: QOUI!?!?!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ob: Je Suis arrive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352320" y="0"/>
            <a:ext cx="5791320" cy="3276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J’ai faim et j’ai soif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Je voudrais un citron presse et des frit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Je voudrais une table libre et une napp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00"/>
                </a:solidFill>
                <a:latin typeface="Calibri"/>
              </a:rPr>
              <a:t>Bob: Ici vous allez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Voila un pourboir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33360" y="5257800"/>
            <a:ext cx="6172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ugene: Quelque fois J’aime me baigner dans l’argent le m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4571640"/>
            <a:ext cx="8229600" cy="1981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Calibri"/>
              </a:rPr>
              <a:t>Patrice: Je voudrais un hot dog et un exp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andy: Je voudrais manger une salade verte et des frites, je voudrais un crè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4800240"/>
            <a:ext cx="8229600" cy="2057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ob: le soir on va diner au Karb Crustil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Tout le monde: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nous allons une belle journé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Tout le monde: AU REVOIR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7:54:14Z</dcterms:created>
  <dc:creator>Alon Neerman</dc:creator>
  <dc:description/>
  <dc:language>en-US</dc:language>
  <cp:lastModifiedBy>edill</cp:lastModifiedBy>
  <dcterms:modified xsi:type="dcterms:W3CDTF">2012-03-01T15:26:02Z</dcterms:modified>
  <cp:revision>31</cp:revision>
  <dc:subject/>
  <dc:title>Slide 1</dc:title>
</cp:coreProperties>
</file>